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ABD-3607-444F-BA00-5F3D1B87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09D-8871-4269-A152-6018AA08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4669-4219-4B07-BEC6-86FCBC52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6E4-0E67-4853-B7EB-F808A986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859-4E40-494D-870E-B3B55BE6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CFC-D9B7-4EAE-957E-27AE51C6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539-433C-46C9-9268-306720A2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9BB-BC82-4D73-A713-9F440FAE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7357-AB1F-4576-A0B3-3D8528C5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380-D473-4689-8977-E2EA9ABB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7E0-5D8A-4B52-8590-170E5D99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1E3-AA6F-44D5-952E-CDFA738B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C991-BE0A-4B81-8CE9-99B3EC7EA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rlham.edu/~hhmi/content/bridge03/mitochondria.jpg&amp;imgrefurl=http://www.earlham.edu/~hhmi/content/bridge03/physics.html&amp;h=467&amp;w=600&amp;sz=86&amp;hl=en&amp;start=11&amp;tbnid=qjiZTOEZLq__wM:&amp;tbnh=105&amp;tbnw=135&amp;prev=/images%3Fq%3Dmitochondria%26ndsp%3D20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uic.edu/classes/bios/bios100/summer2002/chloro.jpg&amp;imgrefurl=http://www.uic.edu/classes/bios/bios100/summer2002/lect05.htm&amp;h=281&amp;w=527&amp;sz=40&amp;hl=en&amp;start=8&amp;tbnid=dX5C6CeCKHI5ZM:&amp;tbnh=70&amp;tbnw=132&amp;prev=/images%3Fq%3Dchloroplasts%26svnum%3D10%26hl%3Den%26rls%3DGGLG,GGLG:2006-47,GGLG:e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rlham.edu/~hhmi/content/bridge03/mitochondria.jpg&amp;imgrefurl=http://www.earlham.edu/~hhmi/content/bridge03/physics.html&amp;h=467&amp;w=600&amp;sz=86&amp;hl=en&amp;start=11&amp;tbnid=qjiZTOEZLq__wM:&amp;tbnh=105&amp;tbnw=135&amp;prev=/images%3Fq%3Dmitochondria%26ndsp%3D20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ic.edu/classes/bios/bios100/summer2002/chloro.jpg&amp;imgrefurl=http://www.uic.edu/classes/bios/bios100/summer2002/lect05.htm&amp;h=281&amp;w=527&amp;sz=40&amp;hl=en&amp;start=8&amp;tbnid=dX5C6CeCKHI5ZM:&amp;tbnh=70&amp;tbnw=132&amp;prev=/images%3Fq%3Dchloroplasts%26svnum%3D10%26hl%3Den%26rls%3DGGLG,GGLG:2006-47,GGLG: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ic.edu/classes/bios/bios100/summer2002/chloro.jpg&amp;imgrefurl=http://www.uic.edu/classes/bios/bios100/summer2002/lect05.htm&amp;h=281&amp;w=527&amp;sz=40&amp;hl=en&amp;start=8&amp;tbnid=dX5C6CeCKHI5ZM:&amp;tbnh=70&amp;tbnw=132&amp;prev=/images%3Fq%3Dchloroplasts%26svnum%3D10%26hl%3Den%26rls%3DGGLG,GGLG:2006-47,GGLG: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rlham.edu/~hhmi/content/bridge03/mitochondria.jpg&amp;imgrefurl=http://www.earlham.edu/~hhmi/content/bridge03/physics.html&amp;h=467&amp;w=600&amp;sz=86&amp;hl=en&amp;start=11&amp;tbnid=qjiZTOEZLq__wM:&amp;tbnh=105&amp;tbnw=135&amp;prev=/images%3Fq%3Dmitochondria%26ndsp%3D20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uic.edu/classes/bios/bios100/summer2002/chloro.jpg&amp;imgrefurl=http://www.uic.edu/classes/bios/bios100/summer2002/lect05.htm&amp;h=281&amp;w=527&amp;sz=40&amp;hl=en&amp;start=8&amp;tbnid=dX5C6CeCKHI5ZM:&amp;tbnh=70&amp;tbnw=132&amp;prev=/images%3Fq%3Dchloroplasts%26svnum%3D10%26hl%3Den%26rls%3DGGLG,GGLG:2006-47,GGLG:e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rlham.edu/~hhmi/content/bridge03/mitochondria.jpg&amp;imgrefurl=http://www.earlham.edu/~hhmi/content/bridge03/physics.html&amp;h=467&amp;w=600&amp;sz=86&amp;hl=en&amp;start=11&amp;tbnid=qjiZTOEZLq__wM:&amp;tbnh=105&amp;tbnw=135&amp;prev=/images%3Fq%3Dmitochondria%26ndsp%3D20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rlham.edu/~hhmi/content/bridge03/mitochondria.jpg&amp;imgrefurl=http://www.earlham.edu/~hhmi/content/bridge03/physics.html&amp;h=467&amp;w=600&amp;sz=86&amp;hl=en&amp;start=11&amp;tbnid=qjiZTOEZLq__wM:&amp;tbnh=105&amp;tbnw=135&amp;prev=/images%3Fq%3Dmitochondria%26ndsp%3D20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rlham.edu/~hhmi/content/bridge03/mitochondria.jpg&amp;imgrefurl=http://www.earlham.edu/~hhmi/content/bridge03/physics.html&amp;h=467&amp;w=600&amp;sz=86&amp;hl=en&amp;start=11&amp;tbnid=qjiZTOEZLq__wM:&amp;tbnh=105&amp;tbnw=135&amp;prev=/images%3Fq%3Dmitochondria%26ndsp%3D20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rlham.edu/~hhmi/content/bridge03/mitochondria.jpg&amp;imgrefurl=http://www.earlham.edu/~hhmi/content/bridge03/physics.html&amp;h=467&amp;w=600&amp;sz=86&amp;hl=en&amp;start=11&amp;tbnid=qjiZTOEZLq__wM:&amp;tbnh=105&amp;tbnw=135&amp;prev=/images%3Fq%3Dmitochondria%26ndsp%3D20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rlham.edu/~hhmi/content/bridge03/mitochondria.jpg&amp;imgrefurl=http://www.earlham.edu/~hhmi/content/bridge03/physics.html&amp;h=467&amp;w=600&amp;sz=86&amp;hl=en&amp;start=11&amp;tbnid=qjiZTOEZLq__wM:&amp;tbnh=105&amp;tbnw=135&amp;prev=/images%3Fq%3Dmitochondria%26ndsp%3D20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m/imgres?imgurl=http://www.earlham.edu/~hhmi/content/bridge03/mitochondria.jpg&amp;imgrefurl=http://www.earlham.edu/~hhmi/content/bridge03/physics.html&amp;h=467&amp;w=600&amp;sz=86&amp;hl=en&amp;start=11&amp;tbnid=qjiZTOEZLq__wM:&amp;tbnh=105&amp;tbnw=135&amp;prev=/images%3Fq%3Dmitochondria%26ndsp%3D20%26svnum%3D10%26hl%3Den%26lr%3D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Rockwell Extra Bold"/>
              </a:rPr>
              <a:t>Mitochondria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Rockwell Extra Bold"/>
              </a:rPr>
              <a:t>&amp;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Rockwell Extra Bold"/>
              </a:rPr>
              <a:t>Chloroplas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than just the cells “powerhou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5614920"/>
            <a:ext cx="1828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tochondria have their own DNA and their own ribosomes- organelles important for transport and gene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bosomes are more similar to bacterial ribosomes than to eukaryotic rib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itochondria arise only when existing ones grow and di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your mitochondria came from your m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ught to be one of the pieces of the evolutionary puzz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endosymbio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enters the food chain through the chloropla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 only in plants and some proti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p light energy and convert it into the chemical bond energy of sug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average, the chloroplast density on the surface of a leaf is about one-half million per square millime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5614920"/>
            <a:ext cx="1828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Chloroplast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a double surrounding membra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id inside this double-membrane organelle is called the stro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NA, ribosome's &amp; enzy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ating in the stroma are the third membrane form of sacs called thylakoi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acs are stacked in groups called a gran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5614920"/>
            <a:ext cx="1828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Chloroplast"/>
          <p:cNvPicPr/>
          <p:nvPr/>
        </p:nvPicPr>
        <p:blipFill>
          <a:blip r:embed="rId1"/>
          <a:stretch/>
        </p:blipFill>
        <p:spPr>
          <a:xfrm>
            <a:off x="1752480" y="173160"/>
            <a:ext cx="6705720" cy="6256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8600" y="5614920"/>
            <a:ext cx="1828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hird membrane is of central importance in chloroplasts, where it fills the role of the inner mitochondrial membrane in electron transport and the chemiosmotic generation of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s are moved across this membrane in order to create usable energy (A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Chloroplast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lorophyll molecule absorbs light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ment of electrons results ultimately in the trapping of energy in a phosphate bond in AT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P is used to make carbohyd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ucose or st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te for PHOTO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142920"/>
            <a:ext cx="6858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tochondria &amp; 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 Extra Bold"/>
              </a:rPr>
              <a:t>Mitochondria &amp; Chloropla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tochondrion and the chloroplast are the two organelles responsible for energ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ither organelle truly produces energ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reproduce independ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5614920"/>
            <a:ext cx="1828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Major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largest organel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sponsible for converting nutrients into energy -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ATP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s level of water and other materials in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ycles and decomposes proteins, fats, and carbohydrates, and forms u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ttered throughout the Cyto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more numerous in cells that have a “High Energy” requi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ver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uscle cells have been recorded to have as many as 2000 mitochondria in 1 muscl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73160"/>
            <a:ext cx="8382240" cy="6511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Outer Membr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ly simple phospholipid bilayer, containing protein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ons, nutrient molecules, ATP, ADP, can pass through the outer membrane with 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ive transport &amp; Facilitated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Inner Membr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freely permeable only to oxygen, carbon dioxide, an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 is highly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ing all of the complexes of the electron transport syste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spi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P synthase comple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The Crist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nkles, or folds, are organized into lamillae (layers), called the crist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atly increase the total surface area of the inner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room for many more of the structures named on the inner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27730" r="0" b="19584"/>
          <a:stretch/>
        </p:blipFill>
        <p:spPr>
          <a:xfrm>
            <a:off x="2819520" y="609480"/>
            <a:ext cx="3662280" cy="1219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The Matr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s the enzymes that are responsible for the citric acid cycle reac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spi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s dissolved oxygen, water, carbon dioxide, the recyclable intermediates that serve as energy shut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3:01:56Z</dcterms:created>
  <dc:creator>joconnor</dc:creator>
  <dc:description/>
  <dc:language>en-US</dc:language>
  <cp:lastModifiedBy>joconnor</cp:lastModifiedBy>
  <dcterms:modified xsi:type="dcterms:W3CDTF">2009-10-29T15:41:31Z</dcterms:modified>
  <cp:revision>18</cp:revision>
  <dc:subject/>
  <dc:title>Mitochondria</dc:title>
</cp:coreProperties>
</file>